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10B1-AF44-4F80-A4F4-1DF63B9EE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7A49-60E6-4953-8019-572C134FB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A60E-9819-43CC-8B3C-EE6A8CCDD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291CA-DC73-4C77-929D-3691D55C5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8EDB-4F4D-4EF2-9B7B-AFA779713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8957-35B6-4D6E-9CD3-818280844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3883-240F-415A-AA0A-91F2ADC44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2DC6-D9FE-4A27-862D-C23E90AD4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B380-5D38-4089-819F-E25514699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21BB-16DE-4BD5-9844-923914922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1917-FCFC-4308-91B8-D918640AA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AE07-01A0-4A7D-8138-211BB81B6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AB8F-FCE3-4EF6-9D01-378BAD5D8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B713-0297-4384-9128-66A02C3EE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082D-FF09-49A7-A54D-3DA1A8EB8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1404-5A59-4C27-BD4C-C194102ED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51994-1F19-4D8A-A99C-327E90702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20C8-E1E0-4E57-87C4-AE9FBA8EE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99DC-8872-47A2-87A2-CD00080E2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B5D0-CE75-4417-A6C1-503C15088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977DB-5C05-463E-82BE-1E7473AF4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CC66B-D852-4C3C-926A-358DA28EA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2C9BB-F29D-47EC-B5EF-009ED77C5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C6BB9-1314-4F84-9AB9-6D2A0F757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EF0E3-26F5-425E-B820-AE92B5AA0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EF680-5E9F-464C-AD33-6D53EEF3D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91175-2D38-4721-99E3-AEE735D6F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F232E-A4CF-4AFF-B989-8DA7B0190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0906C-BBB4-4594-8540-35F5A5B9E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2BA6D-249C-4D77-B2E3-BC5310524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32770-FE68-4053-96CD-5FD4C1748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2B4AC-DA1E-432D-B6BB-DD27DD2F3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2803-E211-4F43-B074-5FDB862F03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install</cp:lastModifiedBy>
  <dcterms:modified xsi:type="dcterms:W3CDTF">2009-07-03T22:58:56Z</dcterms:modified>
  <cp:revision>119</cp:revision>
  <dc:subject/>
  <dc:title>Wikispaces for Teachers A guide to using them in your classroom</dc:title>
</cp:coreProperties>
</file>